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168-0702-4939-8D38-09E7ABBA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13C-8434-464A-8371-8E9953B9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5E8-B6C0-4BF8-9396-99844D07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1F1-F8E2-4729-9F71-11C507D1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CC9-6221-43F6-91F4-59364C3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F41-7725-4169-B842-BC7C8D6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404-0EA1-4ECA-A77F-A7E4A11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F36-F435-4D09-9989-72C55AE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F20-6125-4D5B-9FBF-D63E961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36A-9187-4083-A836-035BE21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ADE-8CE2-4E31-97AD-31E3FED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392-B800-44FF-BB11-9D2BDD2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C87-80EF-416A-87AA-8D0AE80D0C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wwHOu34vhqk&amp;feature=fvs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lid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042920" y="56959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non-polar lipid bi-layer does not allow polar molecules to pass through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484200" y="633096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Without a semi-permeable membran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79280" y="4581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unwanted and potentially harmful particles could enter the cel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08000" y="84456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and cause catastrophic effec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8000" y="162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wwHOu34vhqk&amp;feature=fvst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4597a0"/>
                </a:solidFill>
                <a:latin typeface="Arial"/>
              </a:rPr>
              <a:t>(full cl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lid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9:05:06Z</dcterms:created>
  <dc:creator>Ali</dc:creator>
  <dc:description/>
  <dc:language>en-US</dc:language>
  <cp:lastModifiedBy>Joel</cp:lastModifiedBy>
  <dcterms:modified xsi:type="dcterms:W3CDTF">2011-03-22T01:09:28Z</dcterms:modified>
  <cp:revision>4</cp:revision>
  <dc:subject/>
  <dc:title>Slide 1</dc:title>
</cp:coreProperties>
</file>